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83F-15B6-411A-ABEA-6EE6372C713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ska du få lära dig lite mer om hur man ska tänka när man arbetar med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ACD7-CB9C-441F-8173-1C4703D0F40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tt forska är att ta reda på någonting ny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ågonting som du inte redan vis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2B63-085E-40E3-8196-9A63BF5DA176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nnan du börjar leta fakta, fundera över vad du redan vet om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alla i klassen ska arbeta med samma ämne kan det vara bra att brainstorma i klass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Gör en tankekarta där du skriver ner allt du redan vet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9F0F-220D-47B3-A6E6-43EE4B28349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begränsa äm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å kan det vara bra att skriva en frågeställn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ta gör du enklast genom att skriva en mening som uttrycker det du vill vet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veta mer om Anastasia Romanov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e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g vill lära mig mer om musikstilen samb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går också bra att ställa en fråga. </a:t>
            </a:r>
            <a:r>
              <a:rPr b="1" lang="sv-SE" sz="1200" spc="-1" strike="noStrike">
                <a:solidFill>
                  <a:srgbClr val="000000"/>
                </a:solidFill>
                <a:latin typeface="Calibri"/>
              </a:rPr>
              <a:t>Till exem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ar vikingarna så vilda som ryktet säger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25A5-D055-475A-B76A-C67327E25BB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DD43-AC31-494F-B2BB-30F0DC3FEC3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vänd så många medier som möjligt när du söker efter fak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inns det någon film om ämnet. Filmer är jättebra att börja med för att skaffa sig lite förförstå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Uppslagsverk, både på Internet och i böcker är bra ställen att fortsätt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et finns kanske faktaböcker och Internetsidor där du kan le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Du kan fråga någon som vet mer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Prova också att leta efter fakta i tid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kan lite mer kan du se om du hittar någon berättelse om äm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545-AAA0-40DF-9876-E14F4A2274C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u är det dags att samla ihop all fakta du har hitt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Anteckna noga och gör en ny tankekarta kring din frågeställning eller fyll på den gam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dit all fakta som du tycker är viktig att ha med i ditt arbe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3C46-DBFF-48C4-B9EF-6940C8F6EC4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När du ska redovisa ditt arbete finns det några saker att tänka på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kriv med egna ord. Det är nu du har nytta av din tankekarta. Om du använder den blir du inte frestad att kopi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m du använder bilder i din redovisning – tänk på upphovsrätten. Det är inte fritt fram att använda vilka bilder som h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ala om var du har hämtat informationen. Det kallas för källhänvisnin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änk på att göra ett snyggt arbete som alla kan lä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38BC-B22F-47AA-A1C8-6BA2FA018D0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ch så lite hjälp på vä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Lycka til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E8E5-C477-4B09-B880-DE8F931DBB7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8B4-89FC-46FE-9662-81B5EB05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B8E-0831-4066-A07F-C0753C5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22-7AA7-4185-8B14-95F50DD8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385-AA57-4617-AAB6-2BC460B8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7D6B-A329-4E32-BA5D-6F06EA87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0A1F-976D-4450-9BC8-0795C01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432-2C64-454F-B8D9-7BE5715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87A8-83E6-401F-A057-7658E5A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9D0-F914-4359-BFBB-E394F3F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592F-6E4D-4969-A535-E95A17F2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A95-E1FB-4607-BD48-1948727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CA1-FFBF-430F-B35B-081C8D9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5E9A-3372-47C4-AF1F-DECA429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976-7795-45FF-86C7-75CF86F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A446-C9D3-400E-B719-7098D48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0753-6AAF-4611-9B90-44D71C86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D927-DFBD-44C1-A74A-3547251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6BCE-3359-4029-A792-5F1F67C2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7130-FADC-497C-A517-D8CB1C6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5307-8905-484B-AE7A-6B087EC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6A67-43E6-4DD6-B65F-A462E7E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7C64-3CDF-4AC1-A768-2CBFA90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431-ED6C-46F8-89FF-7ED6D2B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8941-53D6-42ED-9DBD-9A810EB5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C957-201E-437E-8BE5-791017B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C9E8-0368-4089-91F3-E63F6513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DF35-BBFB-4081-B35C-E54D2AA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885F-6980-4EFC-86BA-B28AC572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7DE7-2682-4A4B-BBA0-A25702F8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FAFA-3378-4C1B-BCD9-C04772A8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FFA1-D563-41BF-A917-D4185B79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84C4-487E-4E94-B17F-A974D90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B44E-4009-4C87-89F9-C3CD2179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4A8-9565-49BC-B869-B00E694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E961-CCD9-4B3D-8E47-EF6C2201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6B62-CE46-4813-B4F5-E46599E4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F80CA-3F6D-40E9-BB97-DCB3C97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2A6F-4348-4977-B404-81279AA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C809-A6A8-420D-B9F5-E06E399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B694-2B04-435E-97C7-C8FFC73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B599-C113-48B4-A782-CA80B23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2597-4DD8-4005-9FC5-C8321BC1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7BF9-4893-4727-A7EE-00384D5A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931-1009-4A94-9EC1-7C100649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0B-1190-4220-B510-889A74B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8E2-92B2-470C-9165-E6FD06D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83F-F12B-4C86-81A9-5E4E520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0F6-F4E1-4BEE-B97D-FE2D8A2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8319-5630-4CAC-9877-78C74D5C1B5D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EAD-B34D-483E-9EFD-0E2B8666524C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3DA-D31B-4BEF-86DC-1C1507E30614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v-SE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405-F115-4CBA-A3AF-1B6350B9753E}" type="slidenum">
              <a:rPr b="1" lang="sv-SE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jpeg"/><Relationship Id="rId13" Type="http://schemas.openxmlformats.org/officeDocument/2006/relationships/hyperlink" Target="http://www.geograph.org.uk/profile/5995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5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C:\Users\rebecca.borg\AppData\Local\Microsoft\Windows\Temporary Internet Files\Content.IE5\SM42SJB5\MP900402623[1].jpg"/>
          <p:cNvPicPr/>
          <p:nvPr/>
        </p:nvPicPr>
        <p:blipFill>
          <a:blip r:embed="rId1"/>
          <a:stretch/>
        </p:blipFill>
        <p:spPr>
          <a:xfrm>
            <a:off x="91440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11" descr="C:\Users\rebecca.borg\AppData\Local\Microsoft\Windows\Temporary Internet Files\Content.IE5\B5K3C9DC\MP900308954[1].jpg"/>
          <p:cNvPicPr/>
          <p:nvPr/>
        </p:nvPicPr>
        <p:blipFill>
          <a:blip r:embed="rId2"/>
          <a:srcRect l="34478" t="0" r="14793" b="0"/>
          <a:stretch/>
        </p:blipFill>
        <p:spPr>
          <a:xfrm>
            <a:off x="4782960" y="1843200"/>
            <a:ext cx="3446640" cy="4484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3" name="Rubrik 1" descr=""/>
          <p:cNvPicPr/>
          <p:nvPr/>
        </p:nvPicPr>
        <p:blipFill>
          <a:blip r:embed="rId3"/>
          <a:stretch/>
        </p:blipFill>
        <p:spPr>
          <a:xfrm>
            <a:off x="0" y="195120"/>
            <a:ext cx="914400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C:\Users\rebecca.borg\AppData\Local\Microsoft\Windows\Temporary Internet Files\Content.IE5\73YNZWFG\MP900400378[1].jpg"/>
          <p:cNvPicPr/>
          <p:nvPr/>
        </p:nvPicPr>
        <p:blipFill>
          <a:blip r:embed="rId1"/>
          <a:stretch/>
        </p:blipFill>
        <p:spPr>
          <a:xfrm>
            <a:off x="1828800" y="2251080"/>
            <a:ext cx="5486400" cy="36561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5" name="Rubrik 1" descr=""/>
          <p:cNvPicPr/>
          <p:nvPr/>
        </p:nvPicPr>
        <p:blipFill>
          <a:blip r:embed="rId2"/>
          <a:stretch/>
        </p:blipFill>
        <p:spPr>
          <a:xfrm>
            <a:off x="0" y="249120"/>
            <a:ext cx="914400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ktangel med rundade hörn 20" descr=""/>
          <p:cNvPicPr/>
          <p:nvPr/>
        </p:nvPicPr>
        <p:blipFill>
          <a:blip r:embed="rId1"/>
          <a:stretch/>
        </p:blipFill>
        <p:spPr>
          <a:xfrm>
            <a:off x="5010120" y="3889440"/>
            <a:ext cx="1940040" cy="1377720"/>
          </a:xfrm>
          <a:prstGeom prst="rect">
            <a:avLst/>
          </a:prstGeom>
          <a:ln w="0">
            <a:noFill/>
          </a:ln>
        </p:spPr>
      </p:pic>
      <p:pic>
        <p:nvPicPr>
          <p:cNvPr id="227" name="Rektangel med rundade hörn 18" descr=""/>
          <p:cNvPicPr/>
          <p:nvPr/>
        </p:nvPicPr>
        <p:blipFill>
          <a:blip r:embed="rId2"/>
          <a:stretch/>
        </p:blipFill>
        <p:spPr>
          <a:xfrm>
            <a:off x="5010120" y="2876400"/>
            <a:ext cx="2927520" cy="1281240"/>
          </a:xfrm>
          <a:prstGeom prst="rect">
            <a:avLst/>
          </a:prstGeom>
          <a:ln w="0">
            <a:noFill/>
          </a:ln>
        </p:spPr>
      </p:pic>
      <p:sp>
        <p:nvSpPr>
          <p:cNvPr id="228" name="textruta 10"/>
          <p:cNvSpPr/>
          <p:nvPr/>
        </p:nvSpPr>
        <p:spPr>
          <a:xfrm>
            <a:off x="5205960" y="2997360"/>
            <a:ext cx="2670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d vet du red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ruta 12"/>
          <p:cNvSpPr/>
          <p:nvPr/>
        </p:nvSpPr>
        <p:spPr>
          <a:xfrm>
            <a:off x="5195520" y="4033800"/>
            <a:ext cx="170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C:\Users\rebecca.borg\AppData\Local\Microsoft\Windows\Temporary Internet Files\Content.IE5\SM42SJB5\MP900433196[1].jpg"/>
          <p:cNvPicPr/>
          <p:nvPr/>
        </p:nvPicPr>
        <p:blipFill>
          <a:blip r:embed="rId3"/>
          <a:stretch/>
        </p:blipFill>
        <p:spPr>
          <a:xfrm>
            <a:off x="1200240" y="2554200"/>
            <a:ext cx="3636720" cy="24242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1" name="Rubrik 1" descr=""/>
          <p:cNvPicPr/>
          <p:nvPr/>
        </p:nvPicPr>
        <p:blipFill>
          <a:blip r:embed="rId4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ktangel med rundade hörn 15" descr=""/>
          <p:cNvPicPr/>
          <p:nvPr/>
        </p:nvPicPr>
        <p:blipFill>
          <a:blip r:embed="rId1"/>
          <a:stretch/>
        </p:blipFill>
        <p:spPr>
          <a:xfrm>
            <a:off x="1268280" y="5572080"/>
            <a:ext cx="6059520" cy="1146240"/>
          </a:xfrm>
          <a:prstGeom prst="rect">
            <a:avLst/>
          </a:prstGeom>
          <a:ln w="0">
            <a:noFill/>
          </a:ln>
        </p:spPr>
      </p:pic>
      <p:pic>
        <p:nvPicPr>
          <p:cNvPr id="233" name="Rubrik 1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0"/>
          <p:cNvSpPr/>
          <p:nvPr/>
        </p:nvSpPr>
        <p:spPr>
          <a:xfrm>
            <a:off x="5288040" y="1930320"/>
            <a:ext cx="28144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grän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kriv frågor om det du vill veta mer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Be om synpunkter och råd från an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Rektangel med rundade hörn 11" descr=""/>
          <p:cNvPicPr/>
          <p:nvPr/>
        </p:nvPicPr>
        <p:blipFill>
          <a:blip r:embed="rId3"/>
          <a:stretch/>
        </p:blipFill>
        <p:spPr>
          <a:xfrm>
            <a:off x="1268280" y="4029120"/>
            <a:ext cx="6315120" cy="1176120"/>
          </a:xfrm>
          <a:prstGeom prst="rect">
            <a:avLst/>
          </a:prstGeom>
          <a:ln w="0">
            <a:noFill/>
          </a:ln>
        </p:spPr>
      </p:pic>
      <p:pic>
        <p:nvPicPr>
          <p:cNvPr id="236" name="Rektangel med rundade hörn 14" descr=""/>
          <p:cNvPicPr/>
          <p:nvPr/>
        </p:nvPicPr>
        <p:blipFill>
          <a:blip r:embed="rId4"/>
          <a:stretch/>
        </p:blipFill>
        <p:spPr>
          <a:xfrm>
            <a:off x="1255680" y="4809960"/>
            <a:ext cx="4919760" cy="1176480"/>
          </a:xfrm>
          <a:prstGeom prst="rect">
            <a:avLst/>
          </a:prstGeom>
          <a:ln w="0">
            <a:noFill/>
          </a:ln>
        </p:spPr>
      </p:pic>
      <p:sp>
        <p:nvSpPr>
          <p:cNvPr id="237" name="textruta 16"/>
          <p:cNvSpPr/>
          <p:nvPr/>
        </p:nvSpPr>
        <p:spPr>
          <a:xfrm>
            <a:off x="1506240" y="4125960"/>
            <a:ext cx="590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ur vet man så mycket om dinosaurier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ruta 17"/>
          <p:cNvSpPr/>
          <p:nvPr/>
        </p:nvSpPr>
        <p:spPr>
          <a:xfrm>
            <a:off x="1443960" y="4906800"/>
            <a:ext cx="45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för är tigern utrotningshot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ruta 18"/>
          <p:cNvSpPr/>
          <p:nvPr/>
        </p:nvSpPr>
        <p:spPr>
          <a:xfrm>
            <a:off x="1495800" y="5657760"/>
            <a:ext cx="5753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vikingarna så vilda som ryktet sä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C:\Documents and Settings\Rebecca Borg\Lokala inställningar\Temporary Internet Files\Content.IE5\B7ZOHNRM\MP900422389[1].jpg"/>
          <p:cNvPicPr/>
          <p:nvPr/>
        </p:nvPicPr>
        <p:blipFill>
          <a:blip r:embed="rId5"/>
          <a:srcRect l="0" t="68572" r="0" b="0"/>
          <a:stretch/>
        </p:blipFill>
        <p:spPr>
          <a:xfrm>
            <a:off x="1325520" y="1758960"/>
            <a:ext cx="3826080" cy="17874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ubrik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42" name="Rektangel med rundade hörn 31" descr=""/>
          <p:cNvPicPr/>
          <p:nvPr/>
        </p:nvPicPr>
        <p:blipFill>
          <a:blip r:embed="rId2"/>
          <a:stretch/>
        </p:blipFill>
        <p:spPr>
          <a:xfrm>
            <a:off x="3389400" y="1962000"/>
            <a:ext cx="1255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243" name="textruta 24"/>
          <p:cNvGrpSpPr/>
          <p:nvPr/>
        </p:nvGrpSpPr>
        <p:grpSpPr>
          <a:xfrm>
            <a:off x="3486240" y="1925640"/>
            <a:ext cx="1104840" cy="798480"/>
            <a:chOff x="3486240" y="1925640"/>
            <a:chExt cx="1104840" cy="798480"/>
          </a:xfrm>
        </p:grpSpPr>
        <p:pic>
          <p:nvPicPr>
            <p:cNvPr id="244" name="textruta 24" descr=""/>
            <p:cNvPicPr/>
            <p:nvPr/>
          </p:nvPicPr>
          <p:blipFill>
            <a:blip r:embed="rId3"/>
            <a:stretch/>
          </p:blipFill>
          <p:spPr>
            <a:xfrm>
              <a:off x="3486240" y="1925640"/>
              <a:ext cx="1104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50760" y="2076480"/>
              <a:ext cx="75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il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Rektangel med rundade hörn 32" descr=""/>
          <p:cNvPicPr/>
          <p:nvPr/>
        </p:nvPicPr>
        <p:blipFill>
          <a:blip r:embed="rId4"/>
          <a:stretch/>
        </p:blipFill>
        <p:spPr>
          <a:xfrm>
            <a:off x="2193840" y="2766960"/>
            <a:ext cx="248148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47" name="textruta 25"/>
          <p:cNvGrpSpPr/>
          <p:nvPr/>
        </p:nvGrpSpPr>
        <p:grpSpPr>
          <a:xfrm>
            <a:off x="2225520" y="2762280"/>
            <a:ext cx="2382840" cy="798480"/>
            <a:chOff x="2225520" y="2762280"/>
            <a:chExt cx="2382840" cy="798480"/>
          </a:xfrm>
        </p:grpSpPr>
        <p:pic>
          <p:nvPicPr>
            <p:cNvPr id="248" name="textruta 25" descr=""/>
            <p:cNvPicPr/>
            <p:nvPr/>
          </p:nvPicPr>
          <p:blipFill>
            <a:blip r:embed="rId5"/>
            <a:stretch/>
          </p:blipFill>
          <p:spPr>
            <a:xfrm>
              <a:off x="2225520" y="2762280"/>
              <a:ext cx="2382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396880" y="2911320"/>
              <a:ext cx="2024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Uppslagsve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Rektangel med rundade hörn 33" descr=""/>
          <p:cNvPicPr/>
          <p:nvPr/>
        </p:nvPicPr>
        <p:blipFill>
          <a:blip r:embed="rId6"/>
          <a:stretch/>
        </p:blipFill>
        <p:spPr>
          <a:xfrm>
            <a:off x="689040" y="3645000"/>
            <a:ext cx="39560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51" name="textruta 26"/>
          <p:cNvGrpSpPr/>
          <p:nvPr/>
        </p:nvGrpSpPr>
        <p:grpSpPr>
          <a:xfrm>
            <a:off x="658800" y="3602160"/>
            <a:ext cx="4065480" cy="830880"/>
            <a:chOff x="658800" y="3602160"/>
            <a:chExt cx="4065480" cy="830880"/>
          </a:xfrm>
        </p:grpSpPr>
        <p:pic>
          <p:nvPicPr>
            <p:cNvPr id="252" name="textruta 26" descr=""/>
            <p:cNvPicPr/>
            <p:nvPr/>
          </p:nvPicPr>
          <p:blipFill>
            <a:blip r:embed="rId7"/>
            <a:stretch/>
          </p:blipFill>
          <p:spPr>
            <a:xfrm>
              <a:off x="658800" y="3602160"/>
              <a:ext cx="4065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16120" y="3754440"/>
              <a:ext cx="36129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Faktaböcker och Internet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Rektangel med rundade hörn 34" descr=""/>
          <p:cNvPicPr/>
          <p:nvPr/>
        </p:nvPicPr>
        <p:blipFill>
          <a:blip r:embed="rId8"/>
          <a:stretch/>
        </p:blipFill>
        <p:spPr>
          <a:xfrm>
            <a:off x="2170080" y="5364000"/>
            <a:ext cx="24750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55" name="textruta 29"/>
          <p:cNvGrpSpPr/>
          <p:nvPr/>
        </p:nvGrpSpPr>
        <p:grpSpPr>
          <a:xfrm>
            <a:off x="2273400" y="5353200"/>
            <a:ext cx="2341440" cy="798480"/>
            <a:chOff x="2273400" y="5353200"/>
            <a:chExt cx="2341440" cy="798480"/>
          </a:xfrm>
        </p:grpSpPr>
        <p:pic>
          <p:nvPicPr>
            <p:cNvPr id="256" name="textruta 29" descr=""/>
            <p:cNvPicPr/>
            <p:nvPr/>
          </p:nvPicPr>
          <p:blipFill>
            <a:blip r:embed="rId9"/>
            <a:stretch/>
          </p:blipFill>
          <p:spPr>
            <a:xfrm>
              <a:off x="2273400" y="5353200"/>
              <a:ext cx="2341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441520" y="5502240"/>
              <a:ext cx="1976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Skönlitterat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Rektangel med rundade hörn 35" descr=""/>
          <p:cNvPicPr/>
          <p:nvPr/>
        </p:nvPicPr>
        <p:blipFill>
          <a:blip r:embed="rId10"/>
          <a:stretch/>
        </p:blipFill>
        <p:spPr>
          <a:xfrm>
            <a:off x="2938320" y="4475160"/>
            <a:ext cx="17067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259" name="textruta 27"/>
          <p:cNvGrpSpPr/>
          <p:nvPr/>
        </p:nvGrpSpPr>
        <p:grpSpPr>
          <a:xfrm>
            <a:off x="3060720" y="4438800"/>
            <a:ext cx="1523880" cy="798480"/>
            <a:chOff x="3060720" y="4438800"/>
            <a:chExt cx="1523880" cy="798480"/>
          </a:xfrm>
        </p:grpSpPr>
        <p:pic>
          <p:nvPicPr>
            <p:cNvPr id="260" name="textruta 27" descr=""/>
            <p:cNvPicPr/>
            <p:nvPr/>
          </p:nvPicPr>
          <p:blipFill>
            <a:blip r:embed="rId11"/>
            <a:stretch/>
          </p:blipFill>
          <p:spPr>
            <a:xfrm>
              <a:off x="3060720" y="4438800"/>
              <a:ext cx="15238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224520" y="4589640"/>
              <a:ext cx="1180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</a:rPr>
                <a:t>Interv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Bildobjekt 37" descr="1030323_e82b8df6.jpg"/>
          <p:cNvPicPr/>
          <p:nvPr/>
        </p:nvPicPr>
        <p:blipFill>
          <a:blip r:embed="rId12"/>
          <a:srcRect l="10199" t="7875" r="9538" b="3233"/>
          <a:stretch/>
        </p:blipFill>
        <p:spPr>
          <a:xfrm>
            <a:off x="5002200" y="1776240"/>
            <a:ext cx="3013200" cy="4449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3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</a:t>
            </a:r>
            <a:r>
              <a:rPr b="0" lang="sv-SE" sz="900" spc="-1" strike="noStrike" u="sng">
                <a:solidFill>
                  <a:srgbClr val="021828"/>
                </a:solidFill>
                <a:uFillTx/>
                <a:latin typeface="Arial"/>
                <a:hlinkClick r:id="rId13"/>
              </a:rPr>
              <a:t>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ktangel med rundade hörn 28" descr=""/>
          <p:cNvPicPr/>
          <p:nvPr/>
        </p:nvPicPr>
        <p:blipFill>
          <a:blip r:embed="rId1"/>
          <a:stretch/>
        </p:blipFill>
        <p:spPr>
          <a:xfrm>
            <a:off x="1390680" y="4718160"/>
            <a:ext cx="3346560" cy="1901880"/>
          </a:xfrm>
          <a:prstGeom prst="rect">
            <a:avLst/>
          </a:prstGeom>
          <a:ln w="0">
            <a:noFill/>
          </a:ln>
        </p:spPr>
      </p:pic>
      <p:pic>
        <p:nvPicPr>
          <p:cNvPr id="265" name="Rektangel med rundade hörn 23" descr=""/>
          <p:cNvPicPr/>
          <p:nvPr/>
        </p:nvPicPr>
        <p:blipFill>
          <a:blip r:embed="rId2"/>
          <a:stretch/>
        </p:blipFill>
        <p:spPr>
          <a:xfrm>
            <a:off x="1390680" y="2286000"/>
            <a:ext cx="3327480" cy="1901880"/>
          </a:xfrm>
          <a:prstGeom prst="rect">
            <a:avLst/>
          </a:prstGeom>
          <a:ln w="0">
            <a:noFill/>
          </a:ln>
        </p:spPr>
      </p:pic>
      <p:pic>
        <p:nvPicPr>
          <p:cNvPr id="266" name="Rubrik 1" descr=""/>
          <p:cNvPicPr/>
          <p:nvPr/>
        </p:nvPicPr>
        <p:blipFill>
          <a:blip r:embed="rId3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67" name="Bildobjekt 37" descr="1030323_e82b8df6.jpg"/>
          <p:cNvPicPr/>
          <p:nvPr/>
        </p:nvPicPr>
        <p:blipFill>
          <a:blip r:embed="rId4"/>
          <a:srcRect l="10199" t="7875" r="9538" b="3233"/>
          <a:stretch/>
        </p:blipFill>
        <p:spPr>
          <a:xfrm>
            <a:off x="5002200" y="1776240"/>
            <a:ext cx="3013200" cy="44499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8" name="Rektangel 38"/>
          <p:cNvSpPr/>
          <p:nvPr/>
        </p:nvSpPr>
        <p:spPr>
          <a:xfrm>
            <a:off x="5514840" y="6383160"/>
            <a:ext cx="2500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Bild: Phil Catter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Rektangel med rundade hörn 16" descr=""/>
          <p:cNvPicPr/>
          <p:nvPr/>
        </p:nvPicPr>
        <p:blipFill>
          <a:blip r:embed="rId5"/>
          <a:stretch/>
        </p:blipFill>
        <p:spPr>
          <a:xfrm>
            <a:off x="1390680" y="3529080"/>
            <a:ext cx="3346560" cy="1896840"/>
          </a:xfrm>
          <a:prstGeom prst="rect">
            <a:avLst/>
          </a:prstGeom>
          <a:ln w="0">
            <a:noFill/>
          </a:ln>
        </p:spPr>
      </p:pic>
      <p:sp>
        <p:nvSpPr>
          <p:cNvPr id="270" name="Platshållare för innehåll 2"/>
          <p:cNvSpPr/>
          <p:nvPr/>
        </p:nvSpPr>
        <p:spPr>
          <a:xfrm>
            <a:off x="1601640" y="2508120"/>
            <a:ext cx="2917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Olika sätt att sö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ruta 19"/>
          <p:cNvSpPr/>
          <p:nvPr/>
        </p:nvSpPr>
        <p:spPr>
          <a:xfrm>
            <a:off x="1743480" y="3808440"/>
            <a:ext cx="2601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upp käll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ruta 21"/>
          <p:cNvSpPr/>
          <p:nvPr/>
        </p:nvSpPr>
        <p:spPr>
          <a:xfrm>
            <a:off x="2072520" y="4946760"/>
            <a:ext cx="197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Var källkri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ktangel med rundade hörn 15" descr=""/>
          <p:cNvPicPr/>
          <p:nvPr/>
        </p:nvPicPr>
        <p:blipFill>
          <a:blip r:embed="rId1"/>
          <a:stretch/>
        </p:blipFill>
        <p:spPr>
          <a:xfrm>
            <a:off x="4621320" y="3511440"/>
            <a:ext cx="2869920" cy="1425600"/>
          </a:xfrm>
          <a:prstGeom prst="rect">
            <a:avLst/>
          </a:prstGeom>
          <a:ln w="0">
            <a:noFill/>
          </a:ln>
        </p:spPr>
      </p:pic>
      <p:pic>
        <p:nvPicPr>
          <p:cNvPr id="274" name="Rektangel med rundade hörn 7" descr=""/>
          <p:cNvPicPr/>
          <p:nvPr/>
        </p:nvPicPr>
        <p:blipFill>
          <a:blip r:embed="rId2"/>
          <a:stretch/>
        </p:blipFill>
        <p:spPr>
          <a:xfrm>
            <a:off x="4621320" y="2511360"/>
            <a:ext cx="201744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Rektangel med rundade hörn 10" descr=""/>
          <p:cNvPicPr/>
          <p:nvPr/>
        </p:nvPicPr>
        <p:blipFill>
          <a:blip r:embed="rId3"/>
          <a:stretch/>
        </p:blipFill>
        <p:spPr>
          <a:xfrm>
            <a:off x="4621320" y="4511520"/>
            <a:ext cx="3352680" cy="1541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4932000" y="25336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Anteck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782240" y="4700520"/>
            <a:ext cx="302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Gör en ny tankek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ruta 1"/>
          <p:cNvSpPr/>
          <p:nvPr/>
        </p:nvSpPr>
        <p:spPr>
          <a:xfrm>
            <a:off x="4862520" y="361476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lå upp ny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4"/>
          <a:stretch/>
        </p:blipFill>
        <p:spPr>
          <a:xfrm>
            <a:off x="1239840" y="1886040"/>
            <a:ext cx="3024360" cy="3938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4dcfa"/>
            </a:outerShdw>
          </a:effectLst>
        </p:spPr>
      </p:pic>
      <p:pic>
        <p:nvPicPr>
          <p:cNvPr id="280" name="Rubrik 1" descr=""/>
          <p:cNvPicPr/>
          <p:nvPr/>
        </p:nvPicPr>
        <p:blipFill>
          <a:blip r:embed="rId5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Alternativ process 12" descr=""/>
          <p:cNvPicPr/>
          <p:nvPr/>
        </p:nvPicPr>
        <p:blipFill>
          <a:blip r:embed="rId1"/>
          <a:stretch/>
        </p:blipFill>
        <p:spPr>
          <a:xfrm>
            <a:off x="4363920" y="3121200"/>
            <a:ext cx="3872160" cy="15541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4552920" y="3300480"/>
            <a:ext cx="3613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Tänk på upphovsrä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Alternativ process 13" descr=""/>
          <p:cNvPicPr/>
          <p:nvPr/>
        </p:nvPicPr>
        <p:blipFill>
          <a:blip r:embed="rId2"/>
          <a:stretch/>
        </p:blipFill>
        <p:spPr>
          <a:xfrm>
            <a:off x="4363920" y="3992400"/>
            <a:ext cx="3713400" cy="1603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4673880" y="4227480"/>
            <a:ext cx="3123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Skriv källhänvisnin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Rektangel med rundade hörn 17" descr=""/>
          <p:cNvPicPr/>
          <p:nvPr/>
        </p:nvPicPr>
        <p:blipFill>
          <a:blip r:embed="rId3"/>
          <a:stretch/>
        </p:blipFill>
        <p:spPr>
          <a:xfrm>
            <a:off x="4352760" y="4900680"/>
            <a:ext cx="1925640" cy="1396800"/>
          </a:xfrm>
          <a:prstGeom prst="rect">
            <a:avLst/>
          </a:prstGeom>
          <a:ln w="0">
            <a:noFill/>
          </a:ln>
        </p:spPr>
      </p:pic>
      <p:sp>
        <p:nvSpPr>
          <p:cNvPr id="286" name="textruta 18"/>
          <p:cNvSpPr/>
          <p:nvPr/>
        </p:nvSpPr>
        <p:spPr>
          <a:xfrm>
            <a:off x="4708440" y="5021280"/>
            <a:ext cx="1300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Rektangel med rundade hörn 21" descr=""/>
          <p:cNvPicPr/>
          <p:nvPr/>
        </p:nvPicPr>
        <p:blipFill>
          <a:blip r:embed="rId4"/>
          <a:stretch/>
        </p:blipFill>
        <p:spPr>
          <a:xfrm>
            <a:off x="4359240" y="2298600"/>
            <a:ext cx="2206800" cy="1455840"/>
          </a:xfrm>
          <a:prstGeom prst="rect">
            <a:avLst/>
          </a:prstGeom>
          <a:ln w="0">
            <a:noFill/>
          </a:ln>
        </p:spPr>
      </p:pic>
      <p:sp>
        <p:nvSpPr>
          <p:cNvPr id="288" name="Platshållare för innehåll 2"/>
          <p:cNvSpPr/>
          <p:nvPr/>
        </p:nvSpPr>
        <p:spPr>
          <a:xfrm>
            <a:off x="4495680" y="2379600"/>
            <a:ext cx="1930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Egna 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C:\Users\rebecca.borg\AppData\Local\Microsoft\Windows\Temporary Internet Files\Content.IE5\B5K3C9DC\MP900316887[1].jpg"/>
          <p:cNvPicPr/>
          <p:nvPr/>
        </p:nvPicPr>
        <p:blipFill>
          <a:blip r:embed="rId5"/>
          <a:stretch/>
        </p:blipFill>
        <p:spPr>
          <a:xfrm>
            <a:off x="1143000" y="1712880"/>
            <a:ext cx="2879640" cy="43513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90" name="Rubrik 1" descr=""/>
          <p:cNvPicPr/>
          <p:nvPr/>
        </p:nvPicPr>
        <p:blipFill>
          <a:blip r:embed="rId6"/>
          <a:stretch/>
        </p:blipFill>
        <p:spPr>
          <a:xfrm>
            <a:off x="0" y="85680"/>
            <a:ext cx="9144000" cy="149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Höger 21" descr=""/>
          <p:cNvPicPr/>
          <p:nvPr/>
        </p:nvPicPr>
        <p:blipFill>
          <a:blip r:embed="rId1"/>
          <a:stretch/>
        </p:blipFill>
        <p:spPr>
          <a:xfrm>
            <a:off x="530280" y="3876840"/>
            <a:ext cx="3071880" cy="2852640"/>
          </a:xfrm>
          <a:prstGeom prst="rect">
            <a:avLst/>
          </a:prstGeom>
          <a:ln w="0">
            <a:noFill/>
          </a:ln>
        </p:spPr>
      </p:pic>
      <p:sp>
        <p:nvSpPr>
          <p:cNvPr id="292" name="textruta 18"/>
          <p:cNvSpPr/>
          <p:nvPr/>
        </p:nvSpPr>
        <p:spPr>
          <a:xfrm>
            <a:off x="784080" y="4411800"/>
            <a:ext cx="2297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Letar du bil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Höger 19" descr=""/>
          <p:cNvPicPr/>
          <p:nvPr/>
        </p:nvPicPr>
        <p:blipFill>
          <a:blip r:embed="rId2"/>
          <a:stretch/>
        </p:blipFill>
        <p:spPr>
          <a:xfrm>
            <a:off x="512640" y="1920960"/>
            <a:ext cx="3071880" cy="2859120"/>
          </a:xfrm>
          <a:prstGeom prst="rect">
            <a:avLst/>
          </a:prstGeom>
          <a:ln w="0">
            <a:noFill/>
          </a:ln>
        </p:spPr>
      </p:pic>
      <p:sp>
        <p:nvSpPr>
          <p:cNvPr id="294" name="textruta 17"/>
          <p:cNvSpPr/>
          <p:nvPr/>
        </p:nvSpPr>
        <p:spPr>
          <a:xfrm>
            <a:off x="754200" y="2448000"/>
            <a:ext cx="2670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Arial"/>
              </a:rPr>
              <a:t>Har du glöm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ktangel med rundade hörn 15" descr=""/>
          <p:cNvPicPr/>
          <p:nvPr/>
        </p:nvPicPr>
        <p:blipFill>
          <a:blip r:embed="rId3"/>
          <a:stretch/>
        </p:blipFill>
        <p:spPr>
          <a:xfrm>
            <a:off x="4011480" y="2066760"/>
            <a:ext cx="4638960" cy="2273400"/>
          </a:xfrm>
          <a:prstGeom prst="rect">
            <a:avLst/>
          </a:prstGeom>
          <a:ln w="0">
            <a:noFill/>
          </a:ln>
        </p:spPr>
      </p:pic>
      <p:pic>
        <p:nvPicPr>
          <p:cNvPr id="296" name="Rektangel med rundade hörn 14" descr=""/>
          <p:cNvPicPr/>
          <p:nvPr/>
        </p:nvPicPr>
        <p:blipFill>
          <a:blip r:embed="rId4"/>
          <a:stretch/>
        </p:blipFill>
        <p:spPr>
          <a:xfrm>
            <a:off x="3981600" y="3359160"/>
            <a:ext cx="4711680" cy="4626000"/>
          </a:xfrm>
          <a:prstGeom prst="rect">
            <a:avLst/>
          </a:prstGeom>
          <a:ln w="0">
            <a:noFill/>
          </a:ln>
        </p:spPr>
      </p:pic>
      <p:pic>
        <p:nvPicPr>
          <p:cNvPr id="297" name="Rubrik 1" descr=""/>
          <p:cNvPicPr/>
          <p:nvPr/>
        </p:nvPicPr>
        <p:blipFill>
          <a:blip r:embed="rId5"/>
          <a:stretch/>
        </p:blipFill>
        <p:spPr>
          <a:xfrm>
            <a:off x="6284880" y="6022800"/>
            <a:ext cx="2736720" cy="835200"/>
          </a:xfrm>
          <a:prstGeom prst="rect">
            <a:avLst/>
          </a:prstGeom>
          <a:ln w="0">
            <a:noFill/>
          </a:ln>
        </p:spPr>
      </p:pic>
      <p:sp>
        <p:nvSpPr>
          <p:cNvPr id="298" name="Rektangel 6"/>
          <p:cNvSpPr/>
          <p:nvPr/>
        </p:nvSpPr>
        <p:spPr>
          <a:xfrm>
            <a:off x="5499000" y="3510000"/>
            <a:ext cx="2654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212745"/>
                </a:solidFill>
                <a:latin typeface="Arial"/>
              </a:rPr>
              <a:t>Multimediabyrå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ruta 10"/>
          <p:cNvSpPr/>
          <p:nvPr/>
        </p:nvSpPr>
        <p:spPr>
          <a:xfrm>
            <a:off x="4505040" y="5051520"/>
            <a:ext cx="30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kimedia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ruta 11"/>
          <p:cNvSpPr/>
          <p:nvPr/>
        </p:nvSpPr>
        <p:spPr>
          <a:xfrm>
            <a:off x="6347520" y="4513320"/>
            <a:ext cx="1890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otofinn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ruta 12"/>
          <p:cNvSpPr/>
          <p:nvPr/>
        </p:nvSpPr>
        <p:spPr>
          <a:xfrm>
            <a:off x="4499280" y="4024440"/>
            <a:ext cx="2108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ics4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ruta 13"/>
          <p:cNvSpPr/>
          <p:nvPr/>
        </p:nvSpPr>
        <p:spPr>
          <a:xfrm>
            <a:off x="5441040" y="2440080"/>
            <a:ext cx="1735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lla käl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Rubrik 1" descr=""/>
          <p:cNvPicPr/>
          <p:nvPr/>
        </p:nvPicPr>
        <p:blipFill>
          <a:blip r:embed="rId6"/>
          <a:stretch/>
        </p:blipFill>
        <p:spPr>
          <a:xfrm>
            <a:off x="0" y="249120"/>
            <a:ext cx="9144000" cy="1317600"/>
          </a:xfrm>
          <a:prstGeom prst="rect">
            <a:avLst/>
          </a:prstGeom>
          <a:ln w="0">
            <a:noFill/>
          </a:ln>
        </p:spPr>
      </p:pic>
      <p:sp>
        <p:nvSpPr>
          <p:cNvPr id="304" name="Rektangel 2"/>
          <p:cNvSpPr/>
          <p:nvPr/>
        </p:nvSpPr>
        <p:spPr>
          <a:xfrm>
            <a:off x="111240" y="6485040"/>
            <a:ext cx="2739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2f2b20"/>
                </a:solidFill>
                <a:latin typeface="Cambria"/>
                <a:ea typeface="Arial"/>
              </a:rPr>
              <a:t>Av: Rebecca Borg, Bokelundskolan, Växj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25:12Z</dcterms:created>
  <dc:creator>Rebecca Borg</dc:creator>
  <dc:description/>
  <dc:language>en-US</dc:language>
  <cp:lastModifiedBy>Borg Rebecca</cp:lastModifiedBy>
  <dcterms:modified xsi:type="dcterms:W3CDTF">2011-05-30T07:12:08Z</dcterms:modified>
  <cp:revision>144</cp:revision>
  <dc:subject/>
  <dc:title>Att arbeta med fakta</dc:title>
</cp:coreProperties>
</file>